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FF3F-2B96-4709-90B4-E416CF22F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0BE1-316E-4D22-8905-6B0CFAD9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F075-9ACE-4D66-9B3F-801F33C77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276A-01E0-4332-80F5-12BB6E6EF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B2BF-E754-44C3-80E6-0079F132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62D5-F315-40B6-BFBF-BB8A22C0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C928-3B38-4EF9-9BEC-3AD45F64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ED54-8521-483D-B686-AECBD063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C0EC-3A35-4BEC-BE70-ED0D3933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F060-E8C8-4522-BC36-1D8213A9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9F38-6F53-45D3-9430-1D3EFAF2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D5A9-1497-45FE-87DF-84CF98BC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0FE9-7045-4D55-8C1F-1545A5BC8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12:10:57Z</dcterms:created>
  <dc:creator>Österreichische Computer Gesellschaft</dc:creator>
  <dc:description/>
  <dc:language>en-US</dc:language>
  <cp:lastModifiedBy>Österreichische Computer Gesellschaft</cp:lastModifiedBy>
  <dcterms:modified xsi:type="dcterms:W3CDTF">2004-07-18T15:07:59Z</dcterms:modified>
  <cp:revision>4</cp:revision>
  <dc:subject/>
  <dc:title>Folie 1</dc:title>
</cp:coreProperties>
</file>