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A62-4DFB-4487-A90F-FE561529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E34-1A58-43C2-9261-C67C252E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DB6-807F-49C0-B889-52F4AEF7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540-85EC-4AB2-BD67-1F66A181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F70-6F1D-44C7-9355-5ECEF514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DD2-F289-4660-A6A3-009038CA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D29-312A-4E6C-B839-6DB2BCA1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587-0FE8-49D7-BD94-3A452860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980-6926-4CB9-ACEF-BAADD899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5A4-9363-447B-84D5-3B446239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7F9-BFDF-4AE3-A230-5CB519DD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201-7C3D-4563-8650-FBBD1855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2396-8E62-4081-BC9D-DE6EC3734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mputer Netz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 </cp:lastModifiedBy>
  <dcterms:modified xsi:type="dcterms:W3CDTF">2007-01-27T20:24:40Z</dcterms:modified>
  <cp:revision>5</cp:revision>
  <dc:subject/>
  <dc:title>Folie 1</dc:title>
</cp:coreProperties>
</file>