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F2D-4B26-4A3B-B76C-B2446A7B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F637-40B1-474B-9916-533358AD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774-53B3-4447-A271-77C824A8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FF67-1B67-40A8-A110-A1D8CB87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330-A0DC-43C6-9AE4-17262653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ABB-0023-45F2-923B-422F7548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AE74-658F-4811-925F-7123A250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45E-FE87-4881-9DB7-C80D1E7B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733-9CBB-4FC9-A675-8240C0AB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0750-84F0-4853-B5F5-64AAA685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2FB-A8D7-455E-B2E1-F2125B8E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96EA-A1DF-4D58-A164-FE65F1E6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8FD9-897E-4B86-86E2-172CF8117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Österreichische Computer Gesellschaft</dc:creator>
  <dc:description/>
  <dc:language>en-US</dc:language>
  <cp:lastModifiedBy>Österreichische Computer Gesellschaft</cp:lastModifiedBy>
  <dcterms:modified xsi:type="dcterms:W3CDTF">2004-07-18T15:07:50Z</dcterms:modified>
  <cp:revision>3</cp:revision>
  <dc:subject/>
  <dc:title>Folie 1</dc:title>
</cp:coreProperties>
</file>